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7F7-E6E4-4093-852C-9A4E3874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C8C-2602-4DF2-B9C6-610CBFA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509-F258-4B3F-BDE7-61EC6D10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8D7-C2CF-4221-9CF8-57E40D5B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EE7-E4C9-4EA8-9BF6-A3D0947A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F31-0DBD-4809-91E9-917DE5D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C30-B31F-4484-9C12-C69AC39E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627-5AF6-4215-908E-730F7D1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868-DF41-4A10-887A-4DFF7B03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E18-E869-449D-A018-34F9953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CD4-05BA-466E-AC1D-20EEB5A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E04-C72A-4E29-B192-3B3CAD7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CDE7-5935-491F-98CF-DCFA442D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erar"/>
          <p:cNvPicPr/>
          <p:nvPr/>
        </p:nvPicPr>
        <p:blipFill>
          <a:blip r:embed="rId1"/>
          <a:stretch/>
        </p:blipFill>
        <p:spPr>
          <a:xfrm>
            <a:off x="1066680" y="304920"/>
            <a:ext cx="4114800" cy="371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0-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40080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aham leaves Mamre, and, after having sojourned at Kadesh and Shur, settles in Gerar, v.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takes Sarah, Abraham having acknowledged her to be merely his sister, v.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is warned by God in a dream to restore Sarah to her husband Abraham, v.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asserts his innocence, v. 4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 is further warned, v. 6-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melech rebukes Abraham, v.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aham defends his conduct, v. 11-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melech restores Sarah, making Abraham a generous present of sheep, oxen, and male and female slaves, v. 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melech offers him a residence in any part of the land, v.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he reproves Sarah, v.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the intercession of Abraham, the curse of barrenness is removed from Abimelech and his household, v. 17-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ac is born according to the promise, v. 1-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ac is circumcised when he is only eight days old, v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's age, and Sarah's exultation at the birth of their son, v. 5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aac is weaned, v.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Ishmael mocks on the occasion, Sarah requires that both he and his mother Hagar shall be dismissed, v. 9-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, distressed because of this, is nevertheless ordered by Yahweh to comply, v. 11-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mise is renewed to Ishmael, v. 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sis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 dismisses Hagar and her son; they go to the wilderness of Beer-sheba, v. 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y are in great trouble because they ran out of water, v. 15-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angel of God appears to them and supplies them, v. 17-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hmael prospers and is married, v. 20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melech and Phichol his chief captain make a covenant with Abraham, and surrender the well of Beer-sheba for seven ewe lambs, v. 22-3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raham plants a grove, and invokes the name of the everlasting God, v. 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9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95440"/>
            <a:ext cx="9144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7:23:59Z</dcterms:created>
  <dc:creator>Terry Benton</dc:creator>
  <dc:description/>
  <dc:language>en-US</dc:language>
  <cp:lastModifiedBy>Terry Benton</cp:lastModifiedBy>
  <dcterms:modified xsi:type="dcterms:W3CDTF">2004-08-18T21:44:00Z</dcterms:modified>
  <cp:revision>4</cp:revision>
  <dc:subject/>
  <dc:title>    Genesis 20-21</dc:title>
</cp:coreProperties>
</file>